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6A4914D7-96AB-42DD-8B63-FCA8E23AE4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895320" y="752400"/>
            <a:ext cx="49500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160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84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160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628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160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984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160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628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07     T.Tammet     IT sissejuhatus loeng 12      lk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DA8E77D2-0ACB-4087-BCEF-15B2577A6DF1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14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6248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032AE-11E6-41ED-B999-10ACBEBBBAC5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65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92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objects in the world: enco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762120"/>
            <a:ext cx="784872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allows to encode a huge amount of complexity in a very efficient w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are incredibly comple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are constructed from blueprints: g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genes are very small when compared to anim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contain copies of genes in huge amou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ow is it possibl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are constructed from gene blueprints in recursive form! Animal construction constructs many small parts similarly to large par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44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functions: main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ortant to check that recursion terminates. Code should contai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ne or mor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ase cas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(no recursion involved!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ne or mor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ecursive cases.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rguments of the recursive call must b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impl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” according to some measu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B! The “simplicity” measure may be arbitrarily comple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49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functions: main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has same power as iter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very recursive function can be written using while or for loops inst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very function using while and/or for loops can be written using recursion inst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ev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ome programming tasks are much easier to write using recur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ome programming tasks are much easier to write using it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54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rect and indirect recursive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762120"/>
            <a:ext cx="7848720" cy="56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recursive subroutine is one that calls itself, either directly  or indirectl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 say that a subroutine calls itsel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rect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eans that its definition contains a subroutine call  statement that calls the subroutine that is being defin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 calls fo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1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x-1)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 say that a subroutine calls itsel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direct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eans that it  calls a second subroutine which in turn calls the first subroutine (either directly or indirectly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 calls bar which calls fo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2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a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x-2)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a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2*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x-1)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59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il recursion: directly convertible to it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762120"/>
            <a:ext cx="784872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il recursion: recursive call is the last thing the function do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il recursive functions are typically much faster when written iteratively (unless we have a very good optimising compiler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il recursiv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2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lse if (x&lt;0) return 1 else retur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2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ot tail recursiv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2)+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1+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64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raphical 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, modify and program graphical examples from Eck xTurtle lab 3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mple examp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sise.ttu.ee/it/vorgutarkvara/wai2030/eckintrolabs/tmcm-java-labs/labs/xTurtleLab3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 bit more complex exampl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math.hws.edu/TMCM/java/xTurtle/index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69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binary 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762120"/>
            <a:ext cx="8991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ic int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int[] A, int loIndex, int hiIndex, int value) {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loIndex &gt; hiIndex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middle = (loIndex + hiIndex) / 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value == A[middle])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middl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if (value &lt; A[middle]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A, loIndex, middle - 1, 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  // value must be &gt; A[middle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A, middle + 1, hiIndex, 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binarySearch(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74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xample: towers of Hano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oal: move all the disks from Stack 0 to Stack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ck 2 can be used as a spare locatio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ly one disk at a time may be m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larger disk may never be on the smaller dis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79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286520" cy="388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owers of Hanoi: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void TowersOfHanoi(int disks, int from, int to, int spare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disks == 1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ove a disk from stack number "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from + " to stack number " + t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wersOfHanoi(disks-1, from, spare, t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ove a disk from stack number "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from + " to stack number " + t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wersOfHanoi(disks-1, spare, to, from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85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eklaratiivne vs imperatiiv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990720"/>
            <a:ext cx="7848720" cy="58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keeli ja -meetodeid saab klassifitseerida mitmel moel. Selle loengu kontekstis sobib jaotada programmeerimiskeeled kõigepealt kahte gruppi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ivsed keeled] sobivad samm-sammult, kindlas  järjekorras täidetavate algoritmide esitamiseks. Programmid  kujutavad endast arvutile antavate käskude jada. Tuntumad imperatiivsed keeled on C, Basic, Pascal, Java,  objektorienteeritud keeled ja  assemblerkeel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mperatiivsete keelte peamisek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elis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on arvuti tegevuse täpse kontrollimise ja suunamise võimaldamine, mis enamasti tagab maksimaalse töökiirus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iinusteks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n programmeerimise suur töömahukus - lahenduskäigu kõik detailid tuleb süsteemile esitada - ning suured raskused programmideanalüüsimisel, näiteks optimeerimise, verifitseerimise või paralleliseerimise tarvis.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9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kursioon: üldpõhimõt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ivne vs deklaratiivne 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ne 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line 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97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eklaratiivsed vs imperatiivsed kee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eklaratiivsed keele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obivad algoritmi esitamiseks  käskude jadast abstraktsemal viisil. Programmeerija ei pruugi alati kõiki algoritmi detaile kirja panna, vaid võib esitada otsitava lahenduse  kirjelduse , ning juba programmi täitmise käigus otsustab süsteem automaatselt, mis viisil täpselt seda lahendust otsi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teks keelteks võib lugeda loogilise programmeerimise keeled (näiteks Prolog) ja mitmed funktsionaalsed keeled (näiteks Haskell). Teoorias kasutatav  lambda-arvutus  on puhtalt funktsionaalse deklaratiivse keele näid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95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lussid ja miin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d keeled võimaldavad enamikku programme kiiremini ja mugavamalt kirjutada, kui imperatiivsed keeled - programmeerija ei pea kõigi detailide eest hoolt kandma. Tunduvalt lihtsam on ka programmide analüüs, näiteks programmi automaatsel kohandamisel paralleelarvutile, kus programmi täitmise juures töötab samaaegselt hulk protsessorei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seks miinuseks on programmide väiksem töökiirus - deklaratiivne programm ei pruugi küll alati aeglasem olla, kui imperatiivne, kuid on seda harilikult siiski. Põhjuseks on siin keele automaattranslaatori väiksem intelligentsus kogenud  programmeerijaga võrreldes.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0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unktsionaalsed ja loogilised kee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d keeled jaotatak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unktsionaalse programmeerimise keelt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(näide: Haskell), kus lahendus kirjeldatakse funktsioonide kogu abil - ka viimast saab tegelikult käsitleda kui teatud tüüpi loogikasüsteem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oogilise programmeerimise keelt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(näide: Prolog), kus otsitavat lahendust kirjeldatakse loogika keel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05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unktsionaalne programm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sete keelte idee on programmide kirjutamine (matemaatiliste) funktsioonide defineerimise teel, määramata seejuures täpselt ära, mis strateegia järgi funktsiooni resultaati tuleb arvuta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ile võib anda argumendiks teisi funktsioone ja funktsiooni arvutamise resultaadiks võib samuti olla funktsio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 Funktsionaalne programmeerimine on ajalooliselt esimen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eklaratiivse programmeerimis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viis, ning enamik kaasaegseid programmeerimiskeeli -- C, Pascal, Ada jne --  on funktsionaalse programmeerimise meetoditest mõjustatu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1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: faktoria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990720"/>
            <a:ext cx="784872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fineerime näiteks faktoriaali funktsiooni  fakt  ja funktsiooni  map , mis rakendab oma esimest, funktsionaalset argumenti teiseks argumendiks oleva loendi igale elemendil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d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h|t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esitatakse sisemiselt kui harilik term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(h,t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kt(x,0) =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kt(x,n) = x*fakt(x-1)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hk: fakt(x) = if x=0 then 1 else x*fakt(x-1))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,[]) = []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,[h|t]) = [f(h) | map(f,t)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valdise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akt,[3,5,0]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väärtuseks 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6,120,1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15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valdise väärtustamine (reduktsioon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990720"/>
            <a:ext cx="784872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takse funktsiooni defineeriv "sobiv" võrd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endatakse avaldis võrduse parema pool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maalsete parameetrid asendatakse tegelike argumentid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gu protsessi korratakse kuni rohkem ei sa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c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 (3 - 1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 (2 - 1)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 1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 (1 - 1))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 0)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1)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2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uhtad ja ebapuhtad kee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990720"/>
            <a:ext cx="784872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seid keeli saab jämedalt jagada kahte liiki: puhtad ja ebapuht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htas keeles -- Haskell, Hope, Miranda, FP -- ei ole programmeerijal peale funktsioonide defineerimise ja sisseehitatud baasfunktsioonide (aritmeetika, loendid jms) mingeid lisavahendeid -- kõik kõrvalefektid on keelatud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has funktsionaalne keel ei luba muutujatele väärtusi omistada. Ainus efekt, mis funktsiooni rakendamine argumentidele annab, on resultaadi leidmine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bapuhtad funktsionaalsed keeled - ML, Lisp, Scheme -  kombineerivad puhaste funktsionaalsete keelte mehhanisme imperatiivsete mehhanismid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25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us: lambda-arvu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990720"/>
            <a:ext cx="784872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arvutuse keel on Alonzo Churchi poolt 1930. aastatel leiutatud lihtne ja universaalne meetod  funktsioonide kirjapanekuk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arvutuse teooria tegeleb arvutatavuse ja arvutatavate funktsioonide uurimisega, kasutades selleks lambda-arvutuse keelt kui universaalset programmeerimiskee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urchi tees väidab, et iga algoritmi saab lambda-arvutuse keeles kirja panna. On võimalik näidata, et lambda-arvutus, nagu ka Prolog, C ja Basic on üks paljudest universaalsetest programmeerimiskeeltes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selt on lambda-arvutuse keel ja teooria funktsionaalsete programmeerimiskeelte aluse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3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nonüümsed funktsioon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990720"/>
            <a:ext cx="78487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harilikumaid praktikas kasutatavaid funktsioonide kirjapaneku viise on selli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(x) = x*x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 esitatakse, andes talle samas  nime, konkreetses näites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Lambda-arvutuses esitatakse funktsioone, vastupidi, kui anonüümseid, nimeta terme. äsjatoodud näide on lambda-kirjavii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. x*x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sümboli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järele kirjutatakse funktsiooni formaalseks parameetriks olev muutuja, seejärel punkt ja funktsiooni keh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35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mbda-arvu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me formaalse parameetriga funktsioone esitatakse mitme üksteise sees oleva üheparameetrilise funktsioonina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.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y. x*x+y*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4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762120"/>
            <a:ext cx="7848720" cy="60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subroutine is said to be recursive i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 calls itsel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either directly or indirectly. That is, the subroutin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s used in its own definiti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ad kind - infinite loop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 car is a car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t fact(int x)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return fact(x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can often be used to solve complex problems by reducing them to simpler problems  of the same typ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Good kind – loop is (hopefully) terminat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 "ancestor" is either a parent or an ancestor of a paren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t fact (int x)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f (x &lt;= 0) return 1;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else return x * fact(x-1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02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990720"/>
            <a:ext cx="784872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i rakendamiseks kirjutatakse traditsioonilise $f(3)$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emel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. x*x+1) 3 -- viimase väärtuseks on 1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oogiliselt annab 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y. x*x+y*y) 2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ärtuseks 13. Lambda-termi rakendamisel asendatak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otud muutuja termi kehas termile antud argumendig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f. f(f 2))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. x*x+1))        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2)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(2*2+1)            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5                    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5*5+1                                anna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ultaat seejuures asenduste tegemise järjekorrast ei sõlt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45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d ja muu puhtas lambda-arvut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990720"/>
            <a:ext cx="784872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urchi leiutatud kodeerimi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itmeetik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CC :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 can be thought of as a function taking two natural numbers as arguments and returning a natural numb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LT :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PLU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0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5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binatoorne loog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990720"/>
            <a:ext cx="784872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el minimaalsem, kui lambda-arvu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iven S and K, I itself is unnecessary, since it can be built from the other tw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 = S K K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S K K)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(S K 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(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) =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lambda-termi saab lihtsalt teisendada kombinaatorit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55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bapuhta keele näide: Sche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990720"/>
            <a:ext cx="784872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ine (good? x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&gt; 10 x) #t #f) 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ine (every? fn lst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pair? lst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fn (car lst)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very? fn (cdr lst)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f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t)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very? good? ‘(10 40 50 2 100)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((ev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6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line programmeerimine: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log on esimene -- ja siiani väga populaarne -- loogilise programmeerimise keel. Prolog-ile lisaks on välja töötatud mitmeid uuemaid loogilise programmeerimise keeli ja süsteeme, ning nende arendamine on ulatuslik ja levinud uurimisteema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log-i põhi-idee on nõuda otsitava lahenduse kirjeldamist esimest järku predikaatarvutuse keeles, kusjuures Prolog-i süsteem sisaldab teatud tüüpi automaatset teoreemitõetajat, mis on võimeline lahendust automaatselt otsima ja tuleta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gipoolest ei ole Prolog siiski automaatse teoreemitõestamise süsteem: viimast realiseeriv mehhanism on Prolog-is väga piiratud, spetsiifiline ja loogiliselt mittetäieli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65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leme esimese näitena sugulussidemete andmebaasi, konkreetselt niisugust Prolog-i programm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jaan,peete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jaan,mart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martin,veik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riivo,le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a(leena,le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naisa(X,Z) :- isa(X,Y), isa(Y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naisa(X,Z) :- isa(X,Y), ema(Y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7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äring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990720"/>
            <a:ext cx="7848720" cy="57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le, kas  isa(riivo,martin)  on antud andmebaasist tuletatav, vastab otsingumootor eitav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riivo,mart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t otsib Prologi mootor järgmiselt: kõik andmebaasis olevad laused vaadatakse järjest läbi ning püütakse iga lause esimest literaali päringu-literaaliga unifitseerida. Kui see ei õnnestu, vastatakse päringule eitava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le, kas  isa(riivo,leo)  on antud  andmebaasist tuletatav, vastab otsingumootor jaataval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riivo,le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75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äring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990720"/>
            <a:ext cx="784872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d võivad sisaldada muutujaid: sellisel juhul leiab Prologi mootor  lahenduse , st. muutuja asemele substitueeritava term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jaan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pee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me ei ole rahul esimese leitud lahendusega, võime otsingumootorit instrueerida uusi lahendusi otsima, st püüdma unifitseerida päringut järgmiste andmebaasis olevate lauset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jaan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peet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marti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8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eglite kasuta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reageerib otsingumootor päringule, kas Jaan on kellegi vanais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vanaisa(jaan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veik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85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di eleme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utame programmi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, mis kontrollib, kas esimene argument kuulub teiseks argumendiks olevasse loendiss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(X,[X|Z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(X,[Y|Z]) :- member(X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member(10,[20,30,10,40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9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actorial: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ct(3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(3 - 1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(2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(2 - 1)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(1)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(1 - 1))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(0))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1)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07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ida lo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8080" y="990720"/>
            <a:ext cx="7848720" cy="61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ppend([],Z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ppend([X|Y],Z,[X|R]) :- append(Y,Z,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append([a,b],[c,d],L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=[a,b,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append(X,Y,[a,b,c,d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], Y=[a,b,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], Y=[b,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], Y=[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], Y=[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,d], Y=[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95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mutatsioon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9907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L, [H|T]) :- app(V,[H|U], L), app(V,U,W),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W,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[],[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perm([a,b,c]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c,b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b,a,c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b,c,a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c,a,b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c,b,a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300" name=""/>
            <p:cNvSpPr/>
            <p:nvPr/>
          </p:nvSpPr>
          <p:spPr>
            <a:xfrm>
              <a:off x="838080" y="6811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8605800" y="3762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objects in the world. Fractal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huge amount of of things in the real world has a recursive n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 example, coastline of a sea has 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racta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nature – fractals are  recursive: their structure is repeated over and over in small detai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erpinski triang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12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2377800" cy="2583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2378160" cy="2583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378160" cy="258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vening over San Francisco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20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696080" cy="432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ature uses as little as possible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26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.C. Escher: smaller and smal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32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952880" cy="491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/recursive objects in the real 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.C. Escher: Three wor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138" name=""/>
            <p:cNvSpPr/>
            <p:nvPr/>
          </p:nvSpPr>
          <p:spPr>
            <a:xfrm>
              <a:off x="914400" y="604800"/>
              <a:ext cx="77691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8683560" y="29988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299556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 Tammet</cp:lastModifiedBy>
  <cp:revision>0</cp:revision>
  <dc:subject/>
  <dc:title> </dc:title>
</cp:coreProperties>
</file>